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AF60-DEEE-4736-A90D-8DD97DF5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FA08-2D17-4D82-BF8A-391A3287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BD93-CDD4-4A77-8D00-4AB0A24C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17E5-92B4-4359-A111-9F9DE0F7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0825-56D9-4848-93AD-822A0E9C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8BD7-070C-4614-99D1-84456704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D083-A858-4B9D-9F2D-ECD67018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6088-AB5C-458D-A404-766FE945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658B-1DEC-4BF2-9CB1-DEABBB9B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87CB-D927-4428-8AF7-37449875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7822-EBD2-4707-ACE5-E163E73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F62D-75AE-4FC5-BC97-AD329E03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EDF0-8223-48A3-8B11-B7B2F42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5804-8A05-48BA-A4AC-B66EECAA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F564-BDCB-4205-A947-CE1565DE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51ED-1CC3-4D92-B028-1D4CFDED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B63-4AA8-4733-A41E-9BE791EB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AF5A-0593-4DC8-B934-E9589AC2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5A4A-3744-4967-81FE-09FC1A18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435B-B758-4BCE-B1E6-016A6059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0DE2-1232-4567-8FB1-E42AE47D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8CB7-05D5-4769-84CE-4D8F60E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DAD2-ADA2-402F-A7A7-B2A3F7FD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DC66-9FB3-46F0-8F2F-43407D5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62EE-9459-4E2C-A283-7D4388040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0497-9626-4A50-9F58-F36FA7825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chnologijos.lt/upload/image/technologijos/archyvas/kitas_kampas/kuryba/k_knygos/zinia_kuria_mums_pranesa_vanduo/101.jpg/f-10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nns.ru/uploads/posts/2010-01/1264106087_9785955008288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Вирус сквернослов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-дурак ( по-англий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9120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ы мне противен. Я убью тебя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по-японс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46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 «Я убью тебя!» породили нечто похожее на человека с оружием в ру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932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г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10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о «ангел» породило кольцо маленьких изящных кристалл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ангел"/>
          <p:cNvPicPr/>
          <p:nvPr/>
        </p:nvPicPr>
        <p:blipFill>
          <a:blip r:embed="rId1"/>
          <a:stretch/>
        </p:blipFill>
        <p:spPr>
          <a:xfrm>
            <a:off x="3635280" y="1484280"/>
            <a:ext cx="5508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ьявол ( по-япон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9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слово «Дьявол» – угрожающего вида взду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дьявол"/>
          <p:cNvPicPr/>
          <p:nvPr/>
        </p:nvPicPr>
        <p:blipFill>
          <a:blip r:embed="rId1"/>
          <a:stretch/>
        </p:blipFill>
        <p:spPr>
          <a:xfrm>
            <a:off x="3276720" y="1484280"/>
            <a:ext cx="529092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вай сделаем эт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84720" y="1980720"/>
            <a:ext cx="26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жливое «Давай это сделаем» создает кристалл красивой ф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5616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лай эт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92720" y="1980720"/>
            <a:ext cx="3394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грубое «Делай это!» – нечто очень похожее на кристалл, образовавшийся под воздействием слова «Дьяво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6814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дрость ( по-япон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035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о «мудрость» на разных языках создало красивые правильные кристал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Мудрость"/>
          <p:cNvPicPr/>
          <p:nvPr/>
        </p:nvPicPr>
        <p:blipFill>
          <a:blip r:embed="rId1"/>
          <a:stretch/>
        </p:blipFill>
        <p:spPr>
          <a:xfrm>
            <a:off x="3635280" y="1484280"/>
            <a:ext cx="52578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ы хоро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вор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тыл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вод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22560" y="1413000"/>
            <a:ext cx="6121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ы ду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9134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ы красивый ( несколько ра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6247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ару Эм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Картинка 2 из 21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84280"/>
            <a:ext cx="3365280" cy="504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5 из 24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413000"/>
            <a:ext cx="352116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ы красивый ( много ра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27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больше над водой произносили слова «Ты красивый», тем лучше сформированными получались кристал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3399"/>
                </a:solidFill>
                <a:latin typeface="Arial"/>
              </a:rPr>
              <a:t>Результаты </a:t>
            </a:r>
            <a:br>
              <a:rPr sz="8000"/>
            </a:br>
            <a:br>
              <a:rPr sz="8000"/>
            </a:br>
            <a:r>
              <a:rPr b="1" i="1" lang="en-US" sz="8000" spc="-1" strike="noStrike">
                <a:solidFill>
                  <a:srgbClr val="cc3399"/>
                </a:solidFill>
                <a:latin typeface="Arial"/>
              </a:rPr>
              <a:t>анкетирова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Как ты думаешь, почему люди в своей речи употребляют бранные слова, ругательств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тят покрасовать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тят казаться «крутыми» и взросл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-то недоволь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ленький словарный запа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воспитан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ы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Если ты используешь в своей речи бранные слова (мат, ругательства), то объясни почем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ражение эмоций (злость, когда вывели из себ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чаянно вырв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у что другие говор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ы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33"/>
                </a:solidFill>
                <a:latin typeface="Arial"/>
              </a:rPr>
              <a:t>Как часто ты произносишь эти слов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о   -  2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огда  -  13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огда  -  12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В каких ситуациях это происходит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-то или кто-то выводит из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то в разговорах со сверс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время драк или выяснения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Как ты думаешь, плохо это или нет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  -  2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т  -  1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00"/>
                </a:solidFill>
                <a:latin typeface="Arial"/>
              </a:rPr>
              <a:t>Что ты чувствуешь, когда произносишь такие слов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чего  -  3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ы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 кр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Как ты думаешь, что чувствуют или думают другие люди, когда слышат, как ты произносишь бранные слов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воспитанн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ри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хие родители, плохо воспи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160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Что ты чувствуешь, когда при тебе кто-то ругается матом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ра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рия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ы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х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отря кто ругается, 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чего – 6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2160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юбовь и призна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 обертывали лист бумаги с напечатанными на нем словами вокруг бутылки с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учился кристалл совершенной формы. Это указывает на то, что любовь и признательность являются основ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95960" y="1484280"/>
            <a:ext cx="47480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От кого ты чаще всего слышишь подобные слов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старше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бом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ро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одноклассников – 12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72360" y="2781360"/>
            <a:ext cx="216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ff"/>
                </a:solidFill>
                <a:latin typeface="Arial"/>
              </a:rPr>
              <a:t>Как ты думаешь, что нужно сделать, чтобы люди (дети) не употребляли бранных слов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к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яснить, что это 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зрослые не должны подавать 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ужить с хорошими, воспитанными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ть с себя, прекратить руг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чего, это выбор самого человека, привычка, невозможно остановить – 3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33"/>
                </a:solidFill>
                <a:latin typeface="Arial"/>
              </a:rPr>
              <a:t>Что нужно сделать, чтобы ты не употреблял эти слова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рживать эмо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спитыват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ругаться сам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леить мне 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Хочешь ли ты, чтобы твои будущие дети в своей речи использовали бранные слова? Почем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560" y="2565360"/>
            <a:ext cx="74898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т, т.к. это плохо, некрасиво, ужасно, некультурно, позорит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51672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Почему не стоит скверн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, произносящий мат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клинает себ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окружающих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– это «формат»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удачников, слаб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еуравновешенных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трудняет общ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егулярном мате происходи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идоизменение ген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оторые влияют не только на самого человека, но и на его потом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ведет 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еград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отражае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кудость лексического зап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воря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ерживает умствен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 избавиться от сквернослови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тать ругаться самому, выработать отвращение и брезгливость к сквернослов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бегать общения с людьми, которые употребляют нецензур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тать русскую классическую литерату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минать стихотворения, афориз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 rot="570600">
            <a:off x="883800" y="333360"/>
            <a:ext cx="7067520" cy="611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84720" y="4869000"/>
            <a:ext cx="24084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ставили колбу с водой на фотоснимки красивых объектов природы и древнего зодчества и затем фотографировали образовавшиеся кристаллы. Вот как вода реагировала на наши сни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одопад Вик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27280" cy="367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397836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ященник читал целительную молитву, стоя лицом к озеру. Кристалл, полученный до молитвы, походил на изувеченное лицо. Кристалл же, полученный после, напоминал яркую звез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Озерная вода после буддийской молитвы"/>
          <p:cNvPicPr/>
          <p:nvPr/>
        </p:nvPicPr>
        <p:blipFill>
          <a:blip r:embed="rId1"/>
          <a:stretch/>
        </p:blipFill>
        <p:spPr>
          <a:xfrm>
            <a:off x="5003640" y="198900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3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(по –япон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показали воде надписи “спасибо” на разных языках. Во всех случаях получились красивые, завершенные крист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спасибо"/>
          <p:cNvPicPr/>
          <p:nvPr/>
        </p:nvPicPr>
        <p:blipFill>
          <a:blip r:embed="rId1"/>
          <a:stretch/>
        </p:blipFill>
        <p:spPr>
          <a:xfrm>
            <a:off x="3708360" y="1557360"/>
            <a:ext cx="511164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( по - француз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спасибо"/>
          <p:cNvPicPr/>
          <p:nvPr/>
        </p:nvPicPr>
        <p:blipFill>
          <a:blip r:embed="rId1"/>
          <a:stretch/>
        </p:blipFill>
        <p:spPr>
          <a:xfrm>
            <a:off x="1258920" y="1876320"/>
            <a:ext cx="5905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( по-корей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9040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-дурак ( по-японс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ывали в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корб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, криста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ывал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50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6:57:25Z</dcterms:created>
  <dc:creator>Елена</dc:creator>
  <dc:description/>
  <dc:language>en-US</dc:language>
  <cp:lastModifiedBy>Q</cp:lastModifiedBy>
  <dcterms:modified xsi:type="dcterms:W3CDTF">2012-10-11T16:59:35Z</dcterms:modified>
  <cp:revision>7</cp:revision>
  <dc:subject/>
  <dc:title>Слайд 1</dc:title>
</cp:coreProperties>
</file>